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191-F907-4EE0-9D5D-0A5C9753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51D-48F2-4DD3-9314-6953B310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25F-3C73-4406-AC2C-8FBD8A28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967-01C1-4007-8AB9-506E3B30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589-2539-4C7B-8741-771D8B34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BF5-7207-45C9-98FF-0415825D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652-5983-4900-80C6-B8A85C3E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4FA-CCBC-4970-BCC9-CA73F873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B07-E5AC-41C0-9F0D-AB864E9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CCD-2369-45D2-A51E-B00A0A2A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017-0ED8-414A-8B51-4F838E7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DAE-5FAD-478A-AE01-428A4377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ABFC-31C7-4B07-8366-FA2CAAE8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fulldocumentaries.com/2009/05/13/cold-war-documentary-5-korea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istory.com/videos/robert-gerard-on-the-korean-war#command-decisions-inchon---approach-inchion" TargetMode="External"/><Relationship Id="rId2" Type="http://schemas.openxmlformats.org/officeDocument/2006/relationships/hyperlink" Target="http://www.history.com/videos/robert-gerard-on-the-korean-war#halting-north-korean-tanks" TargetMode="External"/><Relationship Id="rId3" Type="http://schemas.openxmlformats.org/officeDocument/2006/relationships/image" Target="../media/image1.png"/><Relationship Id="rId4" Type="http://schemas.openxmlformats.org/officeDocument/2006/relationships/hyperlink" Target="http://www.history.com/videos/robert-gerard-on-the-korean-war#command-decisions-inchon---approach-inchion" TargetMode="External"/><Relationship Id="rId5" Type="http://schemas.openxmlformats.org/officeDocument/2006/relationships/hyperlink" Target="http://www.history.com/videos/robert-gerard-on-the-korean-war#halting-north-korean-tanks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istory.com/videos/robert-gerard-on-the-korean-war#sherman-pratt-survives-the-korean-war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-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rean War: A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orean War in 30 Sec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KoreanWarMap"/>
          <p:cNvPicPr/>
          <p:nvPr/>
        </p:nvPicPr>
        <p:blipFill>
          <a:blip r:embed="rId1"/>
          <a:stretch/>
        </p:blipFill>
        <p:spPr>
          <a:xfrm>
            <a:off x="4892760" y="1219320"/>
            <a:ext cx="35686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gotte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d in a stale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American casu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issues much less clear than in previous and subsequent confli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WW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rea divided in two by the United States and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ing line: 3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rg_koreawar_colormap"/>
          <p:cNvPicPr/>
          <p:nvPr/>
        </p:nvPicPr>
        <p:blipFill>
          <a:blip r:embed="rId1"/>
          <a:stretch/>
        </p:blipFill>
        <p:spPr>
          <a:xfrm>
            <a:off x="4950000" y="1143000"/>
            <a:ext cx="3463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cratic People’s Republic of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st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iet Union, People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lrg_koreawar_colormap"/>
          <p:cNvPicPr/>
          <p:nvPr/>
        </p:nvPicPr>
        <p:blipFill>
          <a:blip r:embed="rId1"/>
          <a:srcRect l="0" t="0" r="0" b="35561"/>
          <a:stretch/>
        </p:blipFill>
        <p:spPr>
          <a:xfrm>
            <a:off x="3730680" y="1371600"/>
            <a:ext cx="5226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Oval 10"/>
          <p:cNvSpPr/>
          <p:nvPr/>
        </p:nvSpPr>
        <p:spPr>
          <a:xfrm>
            <a:off x="4267080" y="4800600"/>
            <a:ext cx="114300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724280" y="304812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3657600" y="327672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7162920" y="4343400"/>
            <a:ext cx="1295280" cy="1219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ublic of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rg_koreawar_colormap"/>
          <p:cNvPicPr/>
          <p:nvPr/>
        </p:nvPicPr>
        <p:blipFill>
          <a:blip r:embed="rId1"/>
          <a:srcRect l="0" t="49783" r="0" b="0"/>
          <a:stretch/>
        </p:blipFill>
        <p:spPr>
          <a:xfrm>
            <a:off x="3505320" y="1828800"/>
            <a:ext cx="5395680" cy="4297320"/>
          </a:xfrm>
          <a:prstGeom prst="rect">
            <a:avLst/>
          </a:prstGeom>
          <a:ln w="0">
            <a:noFill/>
          </a:ln>
        </p:spPr>
      </p:pic>
      <p:sp>
        <p:nvSpPr>
          <p:cNvPr id="56" name="Oval 6"/>
          <p:cNvSpPr/>
          <p:nvPr/>
        </p:nvSpPr>
        <p:spPr>
          <a:xfrm>
            <a:off x="5005440" y="2678040"/>
            <a:ext cx="9144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"/>
          <p:cNvSpPr/>
          <p:nvPr/>
        </p:nvSpPr>
        <p:spPr>
          <a:xfrm>
            <a:off x="6781680" y="4952880"/>
            <a:ext cx="83844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57600" y="3657600"/>
            <a:ext cx="99072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ginning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orean_War_Montage"/>
          <p:cNvPicPr/>
          <p:nvPr/>
        </p:nvPicPr>
        <p:blipFill>
          <a:blip r:embed="rId2"/>
          <a:stretch/>
        </p:blipFill>
        <p:spPr>
          <a:xfrm>
            <a:off x="5268960" y="1219320"/>
            <a:ext cx="2862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Inv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 25,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Korea invades South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,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and South Korea forces halt their retreat near P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lrg_koreawar_colormap"/>
          <p:cNvPicPr/>
          <p:nvPr/>
        </p:nvPicPr>
        <p:blipFill>
          <a:blip r:embed="rId1"/>
          <a:stretch/>
        </p:blipFill>
        <p:spPr>
          <a:xfrm>
            <a:off x="5265720" y="1143000"/>
            <a:ext cx="348300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Line 6"/>
          <p:cNvSpPr/>
          <p:nvPr/>
        </p:nvSpPr>
        <p:spPr>
          <a:xfrm>
            <a:off x="6248520" y="3962520"/>
            <a:ext cx="30456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6858000" y="4038480"/>
            <a:ext cx="53352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6629400" y="480060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6477120" y="5257800"/>
            <a:ext cx="38088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Fights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orces land at Inchon and break out of P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pproaching Inc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lting North Korean T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. 24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Arthur starts offensive toward Yalu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lrg_koreawar_colormap"/>
          <p:cNvPicPr/>
          <p:nvPr/>
        </p:nvPicPr>
        <p:blipFill>
          <a:blip r:embed="rId3"/>
          <a:stretch/>
        </p:blipFill>
        <p:spPr>
          <a:xfrm>
            <a:off x="4950000" y="1143000"/>
            <a:ext cx="3511440" cy="5562720"/>
          </a:xfrm>
          <a:prstGeom prst="rect">
            <a:avLst/>
          </a:prstGeom>
          <a:ln w="0">
            <a:noFill/>
          </a:ln>
        </p:spPr>
      </p:pic>
      <p:sp>
        <p:nvSpPr>
          <p:cNvPr id="72" name="Oval 6"/>
          <p:cNvSpPr/>
          <p:nvPr/>
        </p:nvSpPr>
        <p:spPr>
          <a:xfrm>
            <a:off x="5181480" y="4495680"/>
            <a:ext cx="114300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 flipH="1" flipV="1">
            <a:off x="6477120" y="4723920"/>
            <a:ext cx="76176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 flipH="1" flipV="1">
            <a:off x="6324480" y="3124080"/>
            <a:ext cx="76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715000" y="3276720"/>
            <a:ext cx="533520" cy="1218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. 1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 forces land at Inchon and break out of P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Approaching Inc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Halting North Korean Ta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Enters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. 25, 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ese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nd SK forces retr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erman Pratt Survives the Korean W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. 10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s push UN forces to 3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f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lrg_koreawar_colormap"/>
          <p:cNvPicPr/>
          <p:nvPr/>
        </p:nvPicPr>
        <p:blipFill>
          <a:blip r:embed="rId2"/>
          <a:stretch/>
        </p:blipFill>
        <p:spPr>
          <a:xfrm>
            <a:off x="5029200" y="1219320"/>
            <a:ext cx="3416400" cy="5410080"/>
          </a:xfrm>
          <a:prstGeom prst="rect">
            <a:avLst/>
          </a:prstGeom>
          <a:ln w="0">
            <a:noFill/>
          </a:ln>
        </p:spPr>
      </p:pic>
      <p:sp>
        <p:nvSpPr>
          <p:cNvPr id="80" name="Oval 6"/>
          <p:cNvSpPr/>
          <p:nvPr/>
        </p:nvSpPr>
        <p:spPr>
          <a:xfrm>
            <a:off x="4952880" y="2514600"/>
            <a:ext cx="6098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410080" y="3124080"/>
            <a:ext cx="68580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6248520" y="2666880"/>
            <a:ext cx="30456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705720" y="40384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. 16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forces push communists back to the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erick Blesse flies P-51s in Korean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27, 19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ase-fire is signed, with border at 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Gerard on the Korean W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until 19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lrg_koreawar_colormap"/>
          <p:cNvPicPr/>
          <p:nvPr/>
        </p:nvPicPr>
        <p:blipFill>
          <a:blip r:embed="rId1"/>
          <a:stretch/>
        </p:blipFill>
        <p:spPr>
          <a:xfrm>
            <a:off x="4952880" y="1143000"/>
            <a:ext cx="3511800" cy="5562720"/>
          </a:xfrm>
          <a:prstGeom prst="rect">
            <a:avLst/>
          </a:prstGeom>
          <a:ln w="0">
            <a:noFill/>
          </a:ln>
        </p:spPr>
      </p:pic>
      <p:sp>
        <p:nvSpPr>
          <p:cNvPr id="87" name="Line 6"/>
          <p:cNvSpPr/>
          <p:nvPr/>
        </p:nvSpPr>
        <p:spPr>
          <a:xfrm flipH="1" flipV="1">
            <a:off x="6400440" y="4419360"/>
            <a:ext cx="30492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 flipV="1">
            <a:off x="6857640" y="4266720"/>
            <a:ext cx="1522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4:57:55Z</dcterms:created>
  <dc:creator>Owner</dc:creator>
  <dc:description/>
  <dc:language>en-US</dc:language>
  <cp:lastModifiedBy>hberndt</cp:lastModifiedBy>
  <dcterms:modified xsi:type="dcterms:W3CDTF">2010-04-22T12:39:31Z</dcterms:modified>
  <cp:revision>7</cp:revision>
  <dc:subject/>
  <dc:title>The Korean War</dc:title>
</cp:coreProperties>
</file>